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C383-40D4-406A-8395-B0F41B1F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17BB-03D3-460E-89DD-CD79EC31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86D9-A304-49CA-AA66-96968A460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E762-EDA9-4554-94DC-4C8BF524C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F05B-814A-41B7-88D5-778DB54C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86E3-DF79-48FD-A19E-A67D1BDE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9A27-D1E6-4751-BDFE-F9688210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DCE5-D12C-4437-B6EE-D0FBCCF5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671A-228F-47CA-82CB-D42464AE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A722-E7BF-4D61-8B1B-43B4495F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0068-AE7C-43A0-891D-F27509A9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A838-7746-4A7E-A36C-82A87AEE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192A-4E42-4D00-ABC1-D3786776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E94A-882D-4712-BCEA-7A259B5A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EEA0-116E-4BB6-BBFA-520F71C5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476F-FD6A-4121-A35A-6A7E1429D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12B5-0F9A-4179-8249-883EC606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B9012-3074-47C7-A1FB-59215DDA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53CA1-798D-446B-A0A7-42044A18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82F9D-3EDA-4C9B-932D-19320420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7D630-99D1-42F3-BB9D-E7A018A6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A1D44-37EF-4DDC-AEDF-C355B446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A289-66EC-4C66-90A1-E274816D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2704C-5399-4F4F-8A6D-739FA5DB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28027-E5C5-4FC8-8BCB-FD7944EE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318BC-34C5-4E59-B7C7-75FD85D4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00B9C-9808-459D-AB6F-69F4FABE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787DB-3E16-4495-A208-1060F44A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4B755-A65E-4ACF-AD65-DADC6651D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5DC14-C657-4AE5-B3EC-FB232A7E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049CF-00DE-4666-A98C-3F25FDCD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10D64-1457-40FD-B109-ACEC614A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8882D-CDC5-4C42-A770-C6407A7A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9A60-1ABC-468C-9DEA-4078A1BF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2DB87-41BD-4850-A425-25F0A02F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47534-2034-407C-B7A5-4CAB5AB3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B75FA-D4B6-4A54-A980-EA071A43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B28A6-3AB4-4169-AB1E-073FD0AB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DFCDB-3DB2-4747-ADBD-7C8C0D2E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F046F-FFA1-49D2-8841-6E0D925D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2A78C-33F3-461B-8419-1D2BD0FA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B978B-2FEE-47B6-B3CF-C2A46D2D7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65B09-900D-49E2-9A67-124A26F0F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BA62D-A44C-4D5A-9A44-6EC8BF2EC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F24A-122D-4FEE-AC45-AE359555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04884-4372-4882-9B8F-A313BBA7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17176-36D0-42F9-B526-1B4FE6C3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48641-1DD2-46A3-B2F7-8DC417FC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F3513-E070-4495-ABB6-6C18A2CE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EC1F6-965C-4477-8D88-5108153B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3C22D-72C4-4BFB-9D7D-D87EF981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27714-989C-4DB8-ADBC-64FC6134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EC150-BFEF-44AA-ABA2-5CBA7D23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7FFF4-4DD4-4A0B-A3CB-1EEB01D7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1037E-2F92-49BF-BF83-C3138753F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68AB-C4D6-47B5-B925-D0FBAFD8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9FF69-26BC-430F-A57D-91A57F0A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A39D6-9263-41D5-B851-0310C27E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4F5AB-7290-40D1-87D8-E2047BD9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18E2E-1F5D-4D32-AFF3-69690F13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45DF2-231E-4534-88A2-6AE0B814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43368-F895-4188-9ACD-B3EBC743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4F626-6F37-4C1A-8447-96BF3177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CA1DE-60D3-48EA-96DB-DE0DB648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DA4B7-8EAC-4682-A484-0A4C4A50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207F4-D193-4E68-9317-66C17252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3739-2123-4CF8-AD24-C3273434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D6B0C-6D91-4252-83E0-46BFFB9E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02439-3472-4670-87CE-E198BDCF5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4C038-BA1D-4A40-A3D1-8DBDA117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217CD-449D-49CA-B0B1-677142930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EBD71-95B3-485F-BD0D-C561A747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E7742-2211-4B3B-A7A5-29A2FA66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2DFF2-F2F6-4D3F-BAE5-FA8D2F76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46CC9-C7B4-48AE-882E-90AA5CC6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DA21B-3EB3-4710-8D72-A2FA2DCB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37A8E-AAFD-46F1-ABB1-FEB3D57E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4752-18F4-46EC-849A-AC0E12B9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420E5-7521-4922-8EB6-A76CF82D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3F50E-E93C-4D29-8016-A735CA19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6015D-09A6-4F9C-9D1E-3055EA75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898DE-1178-49EE-B37E-B632B1AF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94CF0-EB1B-486B-9250-F043DCFE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B29E-7C59-405E-AB39-3E692AF0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7DB7-3F75-47A4-B99E-DBC8B72E82B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1F72-D2D3-4C69-A614-E6BFEC828E5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F432-0555-48D6-9936-E91F51F5141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F77C-20BB-46B4-99C5-A173564E580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FBD8-1528-443B-8024-4C10F3C7C37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4882-A138-43ED-BD9C-F027356B3E7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4EE9-354A-4823-865E-2FAAA0F6DC1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2080" y="2356920"/>
            <a:ext cx="5997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Tunga"/>
              </a:rPr>
              <a:t>              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Tunga"/>
              </a:rPr>
              <a:t>СОЮЗЫ 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Tunga"/>
              </a:rPr>
              <a:t> СОЧИНИТЕЛЬНЫЕ И                                  ПОДЧИНИТЕЛЬНЫ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3499920" y="5085720"/>
            <a:ext cx="5643720" cy="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Вариант 1           Вариант 2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.Когда мы вернулись в деревню, уже все спал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.Веет теплый ветер, и легкий пар клубится у рек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3.Все время доносился отдаленный рокот, а земля под ногами вздрагивал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4.Наталья Саввишна никак не могла понять, что Карл Иванович уеха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5.На левом фланге, куда звал меня Бурцев, происходило  жаркое дело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.По улицам бродили только куры, да изредка выла собак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.Мы пошли по лосиному следу и вскоре увидели, что дорога эта ведет в болот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3.Ребята поднялись на холм, где находился их лагер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4.Солнце уже зашло, и по низким луговым местам все затопил туман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5.Лесник, у которого мы остановились на ночлег, рассказал нам много нового об этих местах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-1692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роверим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. (Когда),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и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а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( что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5.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(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уда)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да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( что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( где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и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[  (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 которого)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оработаем устн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.Если хочешь много знать, надо мало спат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2. Не учась и лаптя не сплетеш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3. Делу время, а потехе час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4. Неразумного учить, что в бездонную бочку воду лит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5. Не на пользу книги читать, коль одни вершки глотат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6. Корень учения горек, да плод его сладок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Озаглавьте тек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17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1.Вдруг среди шорохов и всплесков послышались тревожащие своей необыочностью            звуки. 2. Было похоже, что где-то совсем близко играла крошечная скрипка.3. Звуки мелодии были так слабы, что порывы ветра иногда обрывали , как паутинку, эту тонкую ниточку загадочной трели. 4. Прислушавшись, я уловил закономерную связь между скрипачом и ветром: стоило ветру немного утихнуть, как скрипка переходила на более низкие ноты, звук становился густым, и в нем отчетливо  улавливался  тембр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Озаглавьте тек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158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5.Когда же ветер усиливался, звуки забирались все выше и выше, они становились острыми, как жало, скрипка плакала и всхлипывала.6.Наконец я установил, что звуки исходили из засыпанной раковины  на гребне песчаного холмика. 7. Я осторожно взял раковину, чтобы посмотреть повнимательнее, но ничего особенного не нашел. 8. Я положил ее на прежнее место и приготовился слушать, но раковина-музыкант молчала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Озаглавьте тек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. Похоже, что она рассердилась за то, что ее бесцеремонно потревожили, и ожидала, пока я снова уйд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Задания к тексту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пределите тип и стиль речи. Докажите свое мнение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.Из предложений 5-8 выпишите слово (слова) с чередующейся гласной в корне слов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2.Из предложения 6 выпишите слово, соответствующее орфограмее правописание      приставок на з-\с-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3.Из предложений 1-4 выпишите действительное причастие настоящего времен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14200"/>
            <a:ext cx="74995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Задания к тексту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143000"/>
            <a:ext cx="7499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4.Выпишите из текста все сочинительные союзы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5.Выпишите из текста все подчинительные союзы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6.Из  предложений 3-5 выпишите сравнени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7.Найдите предложение, соответствующее схеме [   (чтобы) ] и укажите его номер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8.Укажите кол-во грамматических основ в 4 предложении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роверь себ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 Забирались, положи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Исходи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Тревожащ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И, н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Что, как, когда, чтобы, пок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Как паутинку, острым, как жал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 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. 5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95280" y="1773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1.Служебня часть речи, которая служит для связи простых предложений в составе сложного, называется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союз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предлог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частиц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Актуализация знани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асти речи в русском языке делятся на самостоятельные и …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 служебным частям речи относятся…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лужебная часть речи, которая служит для связи однородных членов в предложении, а также простых предложений в составе сложного – это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юзы бывают …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1587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  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2. Укажите неверное утверждени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юзы делятся н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сочинительные и подчинитель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простые и состав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производные и непроизвод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3. Выберите ответ, где все слова в ряду- союзы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как, который, 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за, да, чтоб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потому что, зато, н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4. Укажите вариант ответа, в котором все союзы сочинительны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где, зато, такж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и, однако, ж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что, когда, д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16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5. Укажите предложение, в котором союз и соединяет однородные члены (знаки препинания не расставлены.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16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Мы долго не могли выбраться из леса и нам пришлось задержать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16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На улице сегодня сильный мороз и поездка отменяет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16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Я вернусь и все вам расскаж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16416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6. Укажите сложносочиненное предложени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Мы не могли идти дальше, потому что заблудилис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Никто не знал пути домой и мы долго искали дорог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Наш отряд только вчера узнал, что опасность миновал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7. Укажите сложноподчиненное предложени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Когда над тайгой спустился туман, я подплыл к берег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Воробьи взметнулись стайкой и рассыпались вда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За окном было холодно и вскоре пошел сильный дожд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роверь себ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 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Домашнее зад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дберите из художественной литературы 10 предложений с сочинительными и подчинительными союза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Сравните предлож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бо потемнело, и пошел снег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Я воротился домой, но не в душную комнату, а в сад и с наслаждением ходил по дорожкам, осыпанным снежными хлопья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бо потемнело, потому что пошел снег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                  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unga"/>
              </a:rPr>
              <a:t>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СОЮЗ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ЧИНИТЕЛЬНЫЕ и ПОДЧИНИТЕЛЬНЫ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Сочинительные союз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rbel"/>
              </a:rPr>
              <a:t>И, а, но, да, зато, однако, же, то-то, или, либо, не то- не то, тоже, также</a:t>
            </a: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Подчинительные союз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13204"/>
                </a:solidFill>
                <a:latin typeface="Corbel"/>
              </a:rPr>
              <a:t>Что, чтобы, потому что, оттого что, по причине того что, где, когда, затем, пока, если, если бы, коль (коли), поэтому, так как, как, словно, точно, будто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  <a:ea typeface="Tunga"/>
              </a:rPr>
              <a:t>Спишите, расставьте недостающие знаки препинания, укажите типы союзов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21120" indent="-1519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По горизонту весь день слоями лежит прозрачная мгла ( ) и в ней пропадают очертания низких берег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1519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 Вечерняя заря начинается  ( ) когда солнце уже заходит за край зем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1519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Река сверкала то голубым ( ) то зеленым свето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15192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Накануне выглянуло солнце ( ) но дороги еще не совсем просох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151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ver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1" dur="indefinite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2" dur="indefinite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indefinite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9" dur="indefinite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" dur="indefinite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4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0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3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  <a:ea typeface="Tunga"/>
              </a:rPr>
              <a:t>Спишите, расставьте недостающие знаки препинания, укажите типы союзов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Сразу за шатким деревянным мостиком начинался подъем в гору ( ) с которой было видно всю окрестност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Слуга вышел и объявил ( ) что лошади готов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" dur="indefinite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2" dur="indefinite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5" dur="indefinite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6" dur="indefinite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unga"/>
              </a:rPr>
              <a:t>Запишем предлож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ебята очень устали, но работа была еще не закончен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[  ]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но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[   ]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утешественники приблизились к роднику, чтобы напиться вод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17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[  ]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( чтобы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1T11:13:43Z</dcterms:created>
  <dc:creator>N-Book</dc:creator>
  <dc:description/>
  <dc:language>en-US</dc:language>
  <cp:lastModifiedBy>Windows 7</cp:lastModifiedBy>
  <dcterms:modified xsi:type="dcterms:W3CDTF">2013-05-07T01:36:02Z</dcterms:modified>
  <cp:revision>18</cp:revision>
  <dc:subject/>
  <dc:title>Союзы сочинительные и подчинительные</dc:title>
</cp:coreProperties>
</file>